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DD2-A3FC-42D5-B76A-FF511638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03E-9EFB-4611-A260-183AFEB4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EFB-794F-483D-8CB2-5CD3B6B2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B4C-7565-4E83-8467-9F82A8D0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6D9D-94F8-4DCC-AD0D-6D22BF90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BC1-DD45-4806-A14E-6F22798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A3D-E83B-43BA-B838-2B359AF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0490-3770-4B65-A41E-26083EF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450-064B-438B-9678-A2A15C4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6FE-F9CA-40EB-A45F-FCF0BAA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B2F0-0597-4CD6-9CC9-8601AE5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6B0-7323-4A6A-9370-3AB492D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101-9795-4EF5-AC56-A9FAC2D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FF4C-08F6-4E7E-A904-F095182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ED2-28C0-4204-8AE2-81655909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1D8-869C-432B-8463-E92F4DD3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F8A7-EFE3-4B92-A725-E618716F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126-59FD-44E5-911A-AB143239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343-87BD-42C8-B55A-352CEA51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FE6-66B5-40EB-9E72-952A8BCF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BCE-C53B-4BAC-B3BC-9F27796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E28-9B4B-43E3-850E-32DAE9D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AF6-776A-4F0B-AC53-AFC9851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D04-7918-466B-BF25-A804CD0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C1B6-C81A-4B72-A394-6214F16C38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3C07-C96D-40EB-AC22-246C0C684B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7440" y="907920"/>
            <a:ext cx="62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ПРЕДЛОЖЕНИЕ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Рисунок 8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8244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55" descr=""/>
          <p:cNvPicPr/>
          <p:nvPr/>
        </p:nvPicPr>
        <p:blipFill>
          <a:blip r:embed="rId1"/>
          <a:stretch/>
        </p:blipFill>
        <p:spPr>
          <a:xfrm>
            <a:off x="826920" y="2482920"/>
            <a:ext cx="8244000" cy="4216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977760"/>
            <a:ext cx="826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ПРЕДЛОЖЕНИЙ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 ИНТОН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350440"/>
            <a:ext cx="888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Главные члены предложен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</a:rPr>
              <a:t>(грамматическая основа предложения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подлежащее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сказуем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то? что?                что делает? (-ют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имя сущ.)                          каков (-а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глагол, прил.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38960" y="932040"/>
            <a:ext cx="7995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ГЛАВНЫ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 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ВТОРОСТЕПЕННЫЕ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ЛЕНЫ  ПРЕДЛОЖ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4749840"/>
            <a:ext cx="23526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98" descr=""/>
          <p:cNvPicPr/>
          <p:nvPr/>
        </p:nvPicPr>
        <p:blipFill>
          <a:blip r:embed="rId1"/>
          <a:stretch/>
        </p:blipFill>
        <p:spPr>
          <a:xfrm>
            <a:off x="898560" y="957240"/>
            <a:ext cx="806616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62200" y="1052640"/>
            <a:ext cx="81133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тавить из данных слов предложения. Озаглавить текс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дчеркнуть в каждом предложении грамматическую осно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Жили, летом, братья, пасеке, н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омогали, пчелами, дедушке, з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ни, ухажива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Мальчики, из, носили, ручья, вод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месте, с, собирали, мёд, дедом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душист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Изучали, пчёл, повадки, ребят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сенью, готовили, внуки, пчёл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с, зимовке, дедом, 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4960" y="19692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256536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од корнями старого дерева, лисья нора, родились весной, слепые маленькие лисятки, заботливо ухаживала, согревала их, прорезались вскоре, любили играть, весело резвились, грелись на солнышке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нимательно следила, заботливая мать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7928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ставление расска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 опорным словосочетания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880" y="1268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13:48Z</dcterms:created>
  <dc:creator>PK-07</dc:creator>
  <dc:description/>
  <dc:language>en-US</dc:language>
  <cp:lastModifiedBy>PK-07</cp:lastModifiedBy>
  <dcterms:modified xsi:type="dcterms:W3CDTF">2011-08-05T09:01:02Z</dcterms:modified>
  <cp:revision>3</cp:revision>
  <dc:subject/>
  <dc:title>Слайд 1</dc:title>
</cp:coreProperties>
</file>